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ct" ContentType="image/x-pict"/>
  <Override PartName="/ppt/media/image6.png" ContentType="image/png"/>
  <Override PartName="/ppt/media/image13.png" ContentType="image/png"/>
  <Override PartName="/ppt/media/image36.pct" ContentType="image/x-pict"/>
  <Override PartName="/ppt/media/image39.png" ContentType="image/png"/>
  <Override PartName="/ppt/media/image41.png" ContentType="image/png"/>
  <Override PartName="/ppt/media/image9.pct" ContentType="image/x-pict"/>
  <Override PartName="/ppt/media/image46.png" ContentType="image/png"/>
  <Override PartName="/ppt/media/image48.png" ContentType="image/png"/>
  <Override PartName="/ppt/media/image1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80A-AEF9-4AA7-A1D1-5A88F06E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011-9B7E-40A7-9AAF-A541ADB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E51-1ACB-4F63-A976-AD24E1C3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E58-95C5-4106-B5EA-4D424EC4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9B3-F419-4F17-AB70-530D6BD0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5D8-0E5D-40AA-B89C-65AA378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7F7-FC93-4F6B-9387-7092085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683-4ED6-44C0-80E0-1C14C2CA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3AB-908B-4C1D-9A39-60A4AF40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595-FB6C-42CB-A551-B41CA92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5C4-EB2B-403B-91EC-C2D6DA5B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518-AB79-4B37-8E42-4349B0F7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10BA-7587-4BFD-90B2-1CD7E5DFEF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0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Systems, Matter, and Energ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c Compou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000" y="13460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vs. inorganic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560" y="2119320"/>
            <a:ext cx="376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2280" y="2892600"/>
            <a:ext cx="640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inated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1200" y="366696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ofluo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2640" y="444024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2640" y="52135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lex 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560" y="5987880"/>
            <a:ext cx="243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tic Materi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360" y="128412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8320" y="1282680"/>
            <a:ext cx="195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30120" y="211284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 mu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800" y="2114640"/>
            <a:ext cx="373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3360" y="3105000"/>
            <a:ext cx="9019080" cy="3098880"/>
            <a:chOff x="63360" y="3105000"/>
            <a:chExt cx="9019080" cy="30988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63360" y="3105000"/>
              <a:ext cx="90140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8200" y="3308760"/>
              <a:ext cx="89388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79800" y="3308760"/>
              <a:ext cx="107244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re i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 c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xcept 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 cells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8680" y="3308760"/>
              <a:ext cx="12672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ains 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osom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ran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r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6960" y="3308760"/>
              <a:ext cx="11394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ev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 f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3880" y="3308760"/>
              <a:ext cx="12247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e fi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tigh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i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DN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40640" y="3309480"/>
              <a:ext cx="2341800" cy="14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s are segments of 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at contain instruction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proteins—the buil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cks of life. There 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roximately 140,000 ge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each cell, each coded 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quences of nucleotide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s DNA molecul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4600" y="482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6320" y="4782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92920" y="4757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9600" y="482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8920" y="5588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7680" y="5671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01560" y="56649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6720" y="5588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8, p.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 Quality and Material Efficienc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1411200"/>
            <a:ext cx="455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quality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2335320"/>
            <a:ext cx="445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quality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0" y="3259080"/>
            <a:ext cx="225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0" y="4184640"/>
            <a:ext cx="5136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erial efficienc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source productiv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041080" y="1378440"/>
            <a:ext cx="4029840" cy="4588200"/>
            <a:chOff x="5041080" y="1378440"/>
            <a:chExt cx="4029840" cy="45882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5497920" y="1676160"/>
              <a:ext cx="492480" cy="7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529240" y="2746800"/>
              <a:ext cx="43020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447160" y="3395160"/>
              <a:ext cx="594000" cy="4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5527080" y="4168800"/>
              <a:ext cx="435240" cy="62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5591160" y="5080680"/>
              <a:ext cx="30708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28920" y="137844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igh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37080" y="24476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90000" y="30956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3720" y="38703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77600" y="478224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aso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41080" y="5659560"/>
              <a:ext cx="140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luminum c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7725960" y="1650960"/>
              <a:ext cx="49536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7733880" y="2676960"/>
              <a:ext cx="478080" cy="4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7436160" y="3402000"/>
              <a:ext cx="1074240" cy="86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7256880" y="4651560"/>
              <a:ext cx="143316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0"/>
            <a:stretch/>
          </p:blipFill>
          <p:spPr>
            <a:xfrm>
              <a:off x="7567200" y="5214600"/>
              <a:ext cx="811800" cy="4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378560" y="1378440"/>
              <a:ext cx="119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w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4080" y="2403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7080" y="312732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lution of salt in 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9480" y="4200840"/>
              <a:ext cx="158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al-fired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nt emis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2520" y="494100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obile emis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84960" y="5659560"/>
              <a:ext cx="137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luminum 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9, p.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For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520" y="1338120"/>
            <a:ext cx="393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inetic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3800" y="1338120"/>
            <a:ext cx="417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2057400"/>
            <a:ext cx="167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2719440"/>
            <a:ext cx="9232920" cy="3850920"/>
            <a:chOff x="0" y="2719440"/>
            <a:chExt cx="9232920" cy="385092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2719440"/>
              <a:ext cx="914400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19240" y="302472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2600" y="3422520"/>
              <a:ext cx="1755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energy, sh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ve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7200" y="3422520"/>
              <a:ext cx="16452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energy,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ve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60" y="4048200"/>
              <a:ext cx="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05840" y="4048200"/>
              <a:ext cx="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8160" y="4048200"/>
              <a:ext cx="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5560" y="41688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7560" y="401544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onizing rad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46240" y="41688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4720" y="399024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ionizing rad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8160" y="4168800"/>
              <a:ext cx="140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83480" y="4168800"/>
              <a:ext cx="14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200" y="4739040"/>
              <a:ext cx="732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m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9000" y="4739040"/>
              <a:ext cx="74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m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3040" y="4738680"/>
              <a:ext cx="640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96600" y="4739400"/>
              <a:ext cx="910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travio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36120" y="4739400"/>
              <a:ext cx="910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travio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64040" y="4737960"/>
              <a:ext cx="67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si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24560" y="4739400"/>
              <a:ext cx="9554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4040" y="4739400"/>
              <a:ext cx="9554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40520" y="4738680"/>
              <a:ext cx="1641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6480" y="4739040"/>
              <a:ext cx="10321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01160" y="4739040"/>
              <a:ext cx="1031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80" y="5983920"/>
              <a:ext cx="1130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 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not to sca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9640" y="564588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92840" y="564588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4712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4892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10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4100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18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36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082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97800" y="5691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0, p.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400" y="1511280"/>
            <a:ext cx="3450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quality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5400" y="3332160"/>
            <a:ext cx="34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quality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63920" y="1252440"/>
            <a:ext cx="5601960" cy="5055120"/>
            <a:chOff x="3463920" y="1252440"/>
            <a:chExt cx="5601960" cy="505512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3506400" y="1254240"/>
              <a:ext cx="1970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3506400" y="2574720"/>
              <a:ext cx="1970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506400" y="3895560"/>
              <a:ext cx="197028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3506400" y="5274000"/>
              <a:ext cx="1970280" cy="6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5"/>
            <a:stretch/>
          </p:blipFill>
          <p:spPr>
            <a:xfrm>
              <a:off x="5762520" y="1300320"/>
              <a:ext cx="112824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6"/>
            <a:stretch/>
          </p:blipFill>
          <p:spPr>
            <a:xfrm>
              <a:off x="5823720" y="2684160"/>
              <a:ext cx="1014840" cy="99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5914800" y="4130640"/>
              <a:ext cx="84708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8"/>
            <a:stretch/>
          </p:blipFill>
          <p:spPr>
            <a:xfrm>
              <a:off x="6002640" y="5267520"/>
              <a:ext cx="68184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9"/>
            <a:stretch/>
          </p:blipFill>
          <p:spPr>
            <a:xfrm>
              <a:off x="7111080" y="1252440"/>
              <a:ext cx="195192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0"/>
            <a:stretch/>
          </p:blipFill>
          <p:spPr>
            <a:xfrm>
              <a:off x="7111080" y="2574720"/>
              <a:ext cx="195192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7115760" y="3897000"/>
              <a:ext cx="195012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7111080" y="5274000"/>
              <a:ext cx="1951920" cy="6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481200" y="1309680"/>
              <a:ext cx="19256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lectri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ery high 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eat (greater than 2,5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uclear fission (uraniu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uclear fusion (deuteriu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centrated sun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velocity wi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91080" y="2643480"/>
              <a:ext cx="153252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,000–2,5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ydrogen g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atural g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aso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40600" y="3911400"/>
              <a:ext cx="18129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rmal sun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rate-velocity wi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velocity water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cent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eothermal 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rate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–1,0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ood and crop was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3920" y="5377680"/>
              <a:ext cx="1959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ispersed geothermal 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ow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°C or low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82400" y="171180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y 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74640" y="30391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09040" y="4406040"/>
              <a:ext cx="85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03080" y="54586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5400" y="5902560"/>
              <a:ext cx="122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 of 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1360" y="5909040"/>
              <a:ext cx="1593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lative Energy Qu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usefulnes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04280" y="59025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ergy tas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62480" y="1384200"/>
              <a:ext cx="1981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ery high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greater than 2,5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r industrial proc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nd producing electricity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un electrical devic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lights, motor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080" y="2679840"/>
              <a:ext cx="1890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chanical motion (to mo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ehicles and other thing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,000–2,500°C)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dustrial process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ducing electri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77960" y="4118040"/>
              <a:ext cx="1953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rate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–1,000°C) for indust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cesses, cooking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ducing steam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lectricity, and hot wa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65240" y="5357880"/>
              <a:ext cx="1505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ow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°C or less)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pace he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1, p.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hysical and Chemical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1217520"/>
            <a:ext cx="3978360" cy="3059280"/>
            <a:chOff x="0" y="1217520"/>
            <a:chExt cx="3978360" cy="3059280"/>
          </a:xfrm>
        </p:grpSpPr>
        <p:sp>
          <p:nvSpPr>
            <p:cNvPr id="288" name=""/>
            <p:cNvSpPr/>
            <p:nvPr/>
          </p:nvSpPr>
          <p:spPr>
            <a:xfrm>
              <a:off x="0" y="1217520"/>
              <a:ext cx="3978360" cy="30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1228680"/>
              <a:ext cx="3898800" cy="2990160"/>
              <a:chOff x="0" y="1228680"/>
              <a:chExt cx="3898800" cy="2990160"/>
            </a:xfrm>
          </p:grpSpPr>
          <p:pic>
            <p:nvPicPr>
              <p:cNvPr id="2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228680"/>
                <a:ext cx="3898800" cy="288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1287360" y="1263240"/>
                <a:ext cx="1323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nergy absorb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7080" y="1958400"/>
                <a:ext cx="672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elt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04240" y="2239560"/>
                <a:ext cx="756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Freez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58120" y="1827000"/>
                <a:ext cx="990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vapor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nd boil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98360" y="2246040"/>
                <a:ext cx="1113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ndens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6040" y="3416400"/>
                <a:ext cx="508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oli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71480" y="3416400"/>
                <a:ext cx="555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iqui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40280" y="3416400"/>
                <a:ext cx="421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7600" y="3957480"/>
                <a:ext cx="1262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nergy releas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006800" y="131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5, p.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900600" y="3083040"/>
            <a:ext cx="5243400" cy="3006720"/>
            <a:chOff x="3900600" y="3083040"/>
            <a:chExt cx="5243400" cy="3006720"/>
          </a:xfrm>
        </p:grpSpPr>
        <p:sp>
          <p:nvSpPr>
            <p:cNvPr id="302" name=""/>
            <p:cNvSpPr/>
            <p:nvPr/>
          </p:nvSpPr>
          <p:spPr>
            <a:xfrm>
              <a:off x="3900600" y="3083040"/>
              <a:ext cx="5243400" cy="30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933000" y="3171960"/>
              <a:ext cx="5182200" cy="2726640"/>
              <a:chOff x="3933000" y="3171960"/>
              <a:chExt cx="5182200" cy="2726640"/>
            </a:xfrm>
          </p:grpSpPr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8480" y="3171960"/>
                <a:ext cx="3917880" cy="24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383000" y="3428280"/>
                <a:ext cx="1011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ctant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49000" y="3823560"/>
                <a:ext cx="1486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rbon   +   oxyg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47880" y="4195080"/>
                <a:ext cx="73512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   +   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73600" y="4269600"/>
                <a:ext cx="16416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 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38720" y="3810960"/>
                <a:ext cx="2052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rbon dioxid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   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76800" y="5068080"/>
                <a:ext cx="11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38080" y="3428280"/>
                <a:ext cx="102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ducts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33000" y="5622120"/>
                <a:ext cx="89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black sol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57840" y="5622120"/>
                <a:ext cx="107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les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60000" y="5622120"/>
                <a:ext cx="107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les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203360" y="5052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45200" y="4809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45200" y="52221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40480" y="5056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47040" y="5056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30800" y="505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-text, p.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aw of Conservation of Mat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0000" y="1531800"/>
            <a:ext cx="587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is not consum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8200" y="2684520"/>
            <a:ext cx="625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only changes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6040" y="383868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no “away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na01613_" descr=""/>
          <p:cNvPicPr/>
          <p:nvPr/>
        </p:nvPicPr>
        <p:blipFill>
          <a:blip r:embed="rId1"/>
          <a:stretch/>
        </p:blipFill>
        <p:spPr>
          <a:xfrm>
            <a:off x="5559480" y="3679920"/>
            <a:ext cx="3170160" cy="29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ter and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3520" y="1434960"/>
            <a:ext cx="64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mical nature of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3520" y="2189160"/>
            <a:ext cx="344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4600" y="2943360"/>
            <a:ext cx="281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2800" y="3699000"/>
            <a:ext cx="802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gradable (nonpersistent)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3520" y="445284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egradable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3520" y="5207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owly degradable (persistent)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2800" y="5962680"/>
            <a:ext cx="569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degradable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uclear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1360" y="1386000"/>
            <a:ext cx="624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adioactive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440" y="2128680"/>
            <a:ext cx="839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oactive isotopes (radioisotop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3160" y="2873520"/>
            <a:ext cx="343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2800" y="3618000"/>
            <a:ext cx="394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ha part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2080" y="4362480"/>
            <a:ext cx="36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a part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0640" y="5106960"/>
            <a:ext cx="545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lf lif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Table 3-2 p. 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720" y="5851440"/>
            <a:ext cx="454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zing ra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340160" y="2863800"/>
            <a:ext cx="4772160" cy="2254320"/>
            <a:chOff x="4340160" y="2863800"/>
            <a:chExt cx="4772160" cy="2254320"/>
          </a:xfrm>
        </p:grpSpPr>
        <p:sp>
          <p:nvSpPr>
            <p:cNvPr id="347" name=""/>
            <p:cNvSpPr/>
            <p:nvPr/>
          </p:nvSpPr>
          <p:spPr>
            <a:xfrm>
              <a:off x="4365720" y="2863800"/>
              <a:ext cx="4708440" cy="22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340160" y="2898000"/>
              <a:ext cx="4772160" cy="2178720"/>
              <a:chOff x="4340160" y="2898000"/>
              <a:chExt cx="4772160" cy="217872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0600" y="3349800"/>
                <a:ext cx="4041720" cy="172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5653080" y="2898000"/>
                <a:ext cx="782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 pa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23440" y="2898000"/>
                <a:ext cx="76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lock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 wo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23480" y="2898000"/>
                <a:ext cx="842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cre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46720" y="377604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lph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20160" y="4331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e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40160" y="4698360"/>
                <a:ext cx="74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am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2, p.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1471680"/>
            <a:ext cx="170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05800" y="1471680"/>
            <a:ext cx="164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9416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7, p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12060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6, p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77840" y="2125800"/>
            <a:ext cx="8792640" cy="4136400"/>
            <a:chOff x="177840" y="2125800"/>
            <a:chExt cx="8792640" cy="4136400"/>
          </a:xfrm>
        </p:grpSpPr>
        <p:grpSp>
          <p:nvGrpSpPr>
            <p:cNvPr id="364" name=""/>
            <p:cNvGrpSpPr/>
            <p:nvPr/>
          </p:nvGrpSpPr>
          <p:grpSpPr>
            <a:xfrm>
              <a:off x="4659120" y="2125800"/>
              <a:ext cx="4311360" cy="4136400"/>
              <a:chOff x="4659120" y="2125800"/>
              <a:chExt cx="4311360" cy="4136400"/>
            </a:xfrm>
          </p:grpSpPr>
          <p:sp>
            <p:nvSpPr>
              <p:cNvPr id="365" name=""/>
              <p:cNvSpPr/>
              <p:nvPr/>
            </p:nvSpPr>
            <p:spPr>
              <a:xfrm>
                <a:off x="4659120" y="2125800"/>
                <a:ext cx="4311360" cy="4136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4716720" y="2473920"/>
                <a:ext cx="4188240" cy="3750120"/>
                <a:chOff x="4716720" y="2473920"/>
                <a:chExt cx="4188240" cy="3750120"/>
              </a:xfrm>
            </p:grpSpPr>
            <p:pic>
              <p:nvPicPr>
                <p:cNvPr id="36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03280" y="3023640"/>
                  <a:ext cx="403920" cy="24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31280" y="3787920"/>
                  <a:ext cx="547560" cy="346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03280" y="4740120"/>
                  <a:ext cx="40392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03280" y="5446800"/>
                  <a:ext cx="403920" cy="24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" name=""/>
                <p:cNvSpPr/>
                <p:nvPr/>
              </p:nvSpPr>
              <p:spPr>
                <a:xfrm>
                  <a:off x="5660640" y="2473920"/>
                  <a:ext cx="441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423840" y="2473920"/>
                  <a:ext cx="1413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action Conditio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75600" y="2473920"/>
                  <a:ext cx="729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du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069240" y="2538720"/>
                  <a:ext cx="327600" cy="118800"/>
                </a:xfrm>
                <a:prstGeom prst="rightArrow">
                  <a:avLst>
                    <a:gd name="adj1" fmla="val 50000"/>
                    <a:gd name="adj2" fmla="val 68939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66720" y="2538720"/>
                  <a:ext cx="328320" cy="118800"/>
                </a:xfrm>
                <a:prstGeom prst="rightArrow">
                  <a:avLst>
                    <a:gd name="adj1" fmla="val 50000"/>
                    <a:gd name="adj2" fmla="val 69091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681160" y="2816280"/>
                  <a:ext cx="843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-T Fus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496480" y="3258720"/>
                  <a:ext cx="12124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2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uter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604840" y="4066560"/>
                  <a:ext cx="994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3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it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498640" y="4935600"/>
                  <a:ext cx="12124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2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uter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568840" y="5635440"/>
                  <a:ext cx="12124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2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uter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649480" y="4489560"/>
                  <a:ext cx="857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-D Fus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888520" y="301860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974200" y="378324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88520" y="473688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888520" y="544536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057880" y="2792520"/>
                  <a:ext cx="24120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51320" y="3177000"/>
                  <a:ext cx="452520" cy="45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93720" y="3674520"/>
                  <a:ext cx="569880" cy="409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79320" y="4485960"/>
                  <a:ext cx="598320" cy="35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1320" y="5156640"/>
                  <a:ext cx="452520" cy="459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57880" y="5697360"/>
                  <a:ext cx="24120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667920" y="2895480"/>
                  <a:ext cx="895680" cy="102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/>
                <p:nvPr/>
              </p:nvSpPr>
              <p:spPr>
                <a:xfrm>
                  <a:off x="7862400" y="2991600"/>
                  <a:ext cx="63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utr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873920" y="3270600"/>
                  <a:ext cx="60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er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872120" y="377028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21680" y="377028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835760" y="4025160"/>
                  <a:ext cx="685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lium-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864920" y="459000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21680" y="459000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835760" y="4778640"/>
                  <a:ext cx="685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lium-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873920" y="5266080"/>
                  <a:ext cx="60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er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862400" y="5886360"/>
                  <a:ext cx="63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utr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547760" y="3371400"/>
                  <a:ext cx="327600" cy="118800"/>
                </a:xfrm>
                <a:prstGeom prst="rightArrow">
                  <a:avLst>
                    <a:gd name="adj1" fmla="val 50000"/>
                    <a:gd name="adj2" fmla="val 68939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676920" y="4970880"/>
                  <a:ext cx="876240" cy="89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5" name=""/>
                <p:cNvSpPr/>
                <p:nvPr/>
              </p:nvSpPr>
              <p:spPr>
                <a:xfrm>
                  <a:off x="7571160" y="5353200"/>
                  <a:ext cx="327600" cy="118800"/>
                </a:xfrm>
                <a:prstGeom prst="rightArrow">
                  <a:avLst>
                    <a:gd name="adj1" fmla="val 50000"/>
                    <a:gd name="adj2" fmla="val 68939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901920" y="3350160"/>
                  <a:ext cx="208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145280" y="3279600"/>
                  <a:ext cx="212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889320" y="5293080"/>
                  <a:ext cx="209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125840" y="5286600"/>
                  <a:ext cx="207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685200" y="3874320"/>
                  <a:ext cx="950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 million ˚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68720" y="5846760"/>
                  <a:ext cx="775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billion ˚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801680" y="5963040"/>
                  <a:ext cx="16020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804920" y="5650920"/>
                  <a:ext cx="1605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>
                  <a:off x="4916520" y="5918040"/>
                  <a:ext cx="666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utr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27680" y="5604120"/>
                  <a:ext cx="589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758120" y="560412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716720" y="5558760"/>
                  <a:ext cx="833040" cy="66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177840" y="2125800"/>
              <a:ext cx="4301640" cy="4127040"/>
              <a:chOff x="177840" y="2125800"/>
              <a:chExt cx="4301640" cy="4127040"/>
            </a:xfrm>
          </p:grpSpPr>
          <p:sp>
            <p:nvSpPr>
              <p:cNvPr id="419" name=""/>
              <p:cNvSpPr/>
              <p:nvPr/>
            </p:nvSpPr>
            <p:spPr>
              <a:xfrm>
                <a:off x="177840" y="2125800"/>
                <a:ext cx="4301640" cy="4127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56680" y="2259000"/>
                <a:ext cx="4121280" cy="3883680"/>
                <a:chOff x="256680" y="2259000"/>
                <a:chExt cx="4121280" cy="3883680"/>
              </a:xfrm>
            </p:grpSpPr>
            <p:pic>
              <p:nvPicPr>
                <p:cNvPr id="42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56680" y="2288160"/>
                  <a:ext cx="4024800" cy="382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2" name=""/>
                <p:cNvSpPr/>
                <p:nvPr/>
              </p:nvSpPr>
              <p:spPr>
                <a:xfrm>
                  <a:off x="369000" y="39744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26760" y="43754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6160" y="431568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90800" y="346284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278000" y="3522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236240" y="482796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02240" y="476748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80280" y="35438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953000" y="39650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886760" y="43682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397240" y="264060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79400" y="26985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196360" y="32148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85040" y="315720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08600" y="49690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999440" y="49082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273480" y="341460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059640" y="33710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098880" y="370836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246840" y="374544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87880" y="449208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073680" y="44456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72240" y="467532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222000" y="471168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734560" y="555732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17840" y="551340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18240" y="249156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369240" y="277236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533040" y="31356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624840" y="37886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12240" y="419436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518640" y="47610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290040" y="514152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167640" y="547812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11960" y="23184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03160" y="225900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5800" y="27777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895200" y="27176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32840" y="58348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522960" y="577512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049640" y="54352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39760" y="537372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7600" y="33156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20" y="1501920"/>
            <a:ext cx="899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ience as a process for 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2287440"/>
            <a:ext cx="90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nents and regulation of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0" y="3073320"/>
            <a:ext cx="828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0" y="5864400"/>
            <a:ext cx="803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changes and radio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20" y="4468680"/>
            <a:ext cx="8344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First Ironclad Law of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9840" y="2335320"/>
            <a:ext cx="847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is neither created nor destroy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8400" y="342108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only changes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7680" y="4506840"/>
            <a:ext cx="76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’t get something for 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290160" y="1382760"/>
            <a:ext cx="97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rst Law of Thermodynamics (Energ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0320" y="5592600"/>
            <a:ext cx="690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 IN = ENERGY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Second Ironclad Law of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1600" y="1541520"/>
            <a:ext cx="820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cond Law of Thermodynam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3080" y="2719440"/>
            <a:ext cx="847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every transformation, some energy is converted to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3080" y="4470480"/>
            <a:ext cx="790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not break even in terms of energy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and Energy Laws and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1320" y="1611360"/>
            <a:ext cx="73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throughput (waste)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4560" y="252576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ter-recycling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320" y="3441600"/>
            <a:ext cx="572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throughput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206800" y="4068720"/>
            <a:ext cx="4730400" cy="2789280"/>
            <a:chOff x="2206800" y="4068720"/>
            <a:chExt cx="4730400" cy="2789280"/>
          </a:xfrm>
        </p:grpSpPr>
        <p:sp>
          <p:nvSpPr>
            <p:cNvPr id="483" name=""/>
            <p:cNvSpPr/>
            <p:nvPr/>
          </p:nvSpPr>
          <p:spPr>
            <a:xfrm>
              <a:off x="2206800" y="4068720"/>
              <a:ext cx="4730400" cy="278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279160" y="4079880"/>
              <a:ext cx="4585680" cy="2701800"/>
              <a:chOff x="2279160" y="4079880"/>
              <a:chExt cx="4585680" cy="2701800"/>
            </a:xfrm>
          </p:grpSpPr>
          <p:pic>
            <p:nvPicPr>
              <p:cNvPr id="4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36560" y="4541760"/>
                <a:ext cx="4138920" cy="22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2279160" y="4079880"/>
                <a:ext cx="1368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npu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from environment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476080" y="4827600"/>
                <a:ext cx="9914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igh-qua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25120" y="6270120"/>
                <a:ext cx="603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at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88160" y="4079880"/>
                <a:ext cx="1043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hroughpu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06200" y="4079880"/>
                <a:ext cx="13586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intro environment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61440" y="5312160"/>
                <a:ext cx="11379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nsustainab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igh-was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conom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61440" y="4785120"/>
                <a:ext cx="96084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Low-qua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he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energ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729040" y="5826960"/>
                <a:ext cx="77364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Was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mat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pollu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7391520" y="60958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9, p.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e Fig. 3.20, p.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Environmental Science, and Critical Thinking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1636560"/>
            <a:ext cx="31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2430360"/>
            <a:ext cx="476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(natural)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24160"/>
            <a:ext cx="378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nsus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08600" y="2430360"/>
            <a:ext cx="371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08600" y="1636560"/>
            <a:ext cx="423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08960" y="3225960"/>
            <a:ext cx="34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nti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00040" y="4029120"/>
            <a:ext cx="6297840" cy="2654280"/>
            <a:chOff x="1400040" y="4029120"/>
            <a:chExt cx="6297840" cy="26542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400040" y="4029120"/>
              <a:ext cx="629784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404000" y="5087880"/>
              <a:ext cx="919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ke 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5400" y="4276800"/>
              <a:ext cx="1253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experi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collect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46080" y="4681800"/>
              <a:ext cx="20797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ll-tested and acce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terns in the data bec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ientific la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7160" y="5942520"/>
              <a:ext cx="19072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ll-tested and acce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otheses bec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ientific theo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03200" y="5526000"/>
              <a:ext cx="1181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ke or rev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othe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2, p.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dels and Behavior of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60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7040" y="283860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s (throughpu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520" y="409572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es (storage 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960" y="5354640"/>
            <a:ext cx="240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stem Reg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120" y="1504800"/>
            <a:ext cx="414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3760" y="221292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7360" y="1503360"/>
            <a:ext cx="306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8080" y="2265480"/>
            <a:ext cx="287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5760" y="2921040"/>
            <a:ext cx="223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28800" y="3676680"/>
            <a:ext cx="6658560" cy="2987640"/>
            <a:chOff x="928800" y="3676680"/>
            <a:chExt cx="6658560" cy="29876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928800" y="3676680"/>
              <a:ext cx="66355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395000" y="3763440"/>
              <a:ext cx="1443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ate of metabol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ical reac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1960" y="4935240"/>
              <a:ext cx="10692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t inp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om su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0480" y="5173200"/>
              <a:ext cx="9990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t lo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om ai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oling sk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71600" y="4765320"/>
              <a:ext cx="1022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t in bod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38640" y="3969720"/>
              <a:ext cx="1700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sitive feedback loo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3760" y="4766760"/>
              <a:ext cx="11559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mperature 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50200" y="4635000"/>
              <a:ext cx="1419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ceived by br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0160" y="4644360"/>
              <a:ext cx="13572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weat produ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y sk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4520" y="5952240"/>
              <a:ext cx="1746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gative feedback loo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4, p. 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tter:  Forms, Structure, and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8040" y="183816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9120" y="313524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7680" y="5729400"/>
            <a:ext cx="2604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x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6960" y="44323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tom2" descr=""/>
          <p:cNvPicPr/>
          <p:nvPr/>
        </p:nvPicPr>
        <p:blipFill>
          <a:blip r:embed="rId1"/>
          <a:stretch/>
        </p:blipFill>
        <p:spPr>
          <a:xfrm>
            <a:off x="4403880" y="1917720"/>
            <a:ext cx="4435200" cy="432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66960" y="1144440"/>
            <a:ext cx="54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880" y="190332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600" y="257652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6520" y="3249720"/>
            <a:ext cx="269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7480" y="4176720"/>
            <a:ext cx="608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tomic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7320" y="4986360"/>
            <a:ext cx="405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8640" y="498780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6600" y="5889600"/>
            <a:ext cx="340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9000" y="5889600"/>
            <a:ext cx="241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amples of Ato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1080" y="1308600"/>
            <a:ext cx="7937640" cy="5341680"/>
            <a:chOff x="181080" y="1308600"/>
            <a:chExt cx="7937640" cy="534168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099800" y="1585080"/>
              <a:ext cx="116928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3672360" y="1585080"/>
              <a:ext cx="116928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6274440" y="1585080"/>
              <a:ext cx="117612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1262520" y="3982320"/>
              <a:ext cx="199476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211000" y="3982320"/>
              <a:ext cx="2004480" cy="20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81080" y="1308600"/>
              <a:ext cx="130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 (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2240" y="1874520"/>
              <a:ext cx="46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19120" y="2021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26600" y="1874520"/>
              <a:ext cx="46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31200" y="1874520"/>
              <a:ext cx="46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09680" y="2021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4960" y="2021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0920" y="2706480"/>
              <a:ext cx="223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0 + 1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99.98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4560" y="2693880"/>
              <a:ext cx="2238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1 + 1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 deuteri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0.015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80600" y="2682720"/>
              <a:ext cx="2238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2 + 1 =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 tritium 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tra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080" y="399384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ranium (U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9280" y="465012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3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6680" y="46443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43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41720" y="465012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3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0920" y="46443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46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05880" y="4794480"/>
              <a:ext cx="4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60480" y="4794480"/>
              <a:ext cx="4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45080" y="5914800"/>
              <a:ext cx="273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143 + 92 = 2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ranium-2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0.7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9760" y="5916960"/>
              <a:ext cx="273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146 + 92 = 2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ranium-2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99.3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6, p.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800" y="1617840"/>
            <a:ext cx="476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720" y="2673360"/>
            <a:ext cx="315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080" y="3730680"/>
            <a:ext cx="400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8080" y="4788000"/>
            <a:ext cx="422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gen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molecule" descr=""/>
          <p:cNvPicPr/>
          <p:nvPr/>
        </p:nvPicPr>
        <p:blipFill>
          <a:blip r:embed="rId1"/>
          <a:stretch/>
        </p:blipFill>
        <p:spPr>
          <a:xfrm>
            <a:off x="4297320" y="1849320"/>
            <a:ext cx="4519800" cy="33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ine Pramuk</cp:lastModifiedBy>
  <dcterms:modified xsi:type="dcterms:W3CDTF">2001-07-26T22:20:17Z</dcterms:modified>
  <cp:revision>23</cp:revision>
  <dc:subject/>
  <dc:title>PowerPoint Presentation</dc:title>
</cp:coreProperties>
</file>